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8D58-6ABF-4F20-B8A5-CFE6294F85B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9C3D-6DC6-4797-ADA8-FB8EA00AF98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433-94B8-4612-A602-7BA88E70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48B-C777-4D5A-A66E-A198CEC8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0F5-220A-432D-A024-EEB4E0BE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5FC-5C06-443A-BE83-A16BE40A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96B-78D6-4AAE-A1C9-EFFD4675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DDB-42FD-46EF-920D-95D82B47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709-A4F1-4F2E-A6EB-EF39DF51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A52-9FCE-452F-A1CA-3D36E59F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E16-8E04-46D7-8DED-3BF504A2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DA9-B36F-4B92-9ACE-47C4964B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8DD-6850-440A-B53F-CDD3DDD2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3A7-18A1-4572-ABC8-BCD5232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5FD3-EA4A-46AA-91E7-41FA90BD5D7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62"/>
          <p:cNvSpPr/>
          <p:nvPr/>
        </p:nvSpPr>
        <p:spPr>
          <a:xfrm>
            <a:off x="1692360" y="4365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Calibri"/>
              </a:rPr>
              <a:t>HER2-MELTING 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ccia a destra 65"/>
          <p:cNvSpPr/>
          <p:nvPr/>
        </p:nvSpPr>
        <p:spPr>
          <a:xfrm rot="8935800">
            <a:off x="3994920" y="4869000"/>
            <a:ext cx="576360" cy="28872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o 68"/>
          <p:cNvGrpSpPr/>
          <p:nvPr/>
        </p:nvGrpSpPr>
        <p:grpSpPr>
          <a:xfrm>
            <a:off x="0" y="520560"/>
            <a:ext cx="9144000" cy="6093360"/>
            <a:chOff x="0" y="520560"/>
            <a:chExt cx="9144000" cy="6093360"/>
          </a:xfrm>
        </p:grpSpPr>
        <p:pic>
          <p:nvPicPr>
            <p:cNvPr id="51" name="Picture 11" descr="melting HER2"/>
            <p:cNvPicPr/>
            <p:nvPr/>
          </p:nvPicPr>
          <p:blipFill>
            <a:blip r:embed="rId1"/>
            <a:stretch/>
          </p:blipFill>
          <p:spPr>
            <a:xfrm>
              <a:off x="827280" y="3933000"/>
              <a:ext cx="2777040" cy="20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CasellaDiTesto 56"/>
            <p:cNvSpPr/>
            <p:nvPr/>
          </p:nvSpPr>
          <p:spPr>
            <a:xfrm>
              <a:off x="0" y="2204640"/>
              <a:ext cx="21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Urine sample collection and processing                    (1 hour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CasellaDiTesto 57"/>
            <p:cNvSpPr/>
            <p:nvPr/>
          </p:nvSpPr>
          <p:spPr>
            <a:xfrm>
              <a:off x="2483640" y="2420640"/>
              <a:ext cx="230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2.  Cell free DNA isolation and quantific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 </a:t>
              </a:r>
              <a:r>
                <a:rPr b="1" lang="it-IT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(3 hours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CasellaDiTesto 58"/>
            <p:cNvSpPr/>
            <p:nvPr/>
          </p:nvSpPr>
          <p:spPr>
            <a:xfrm>
              <a:off x="5796360" y="1312560"/>
              <a:ext cx="291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3.  Urine cell free DNA integrity – PCR  (2 hours for control gene STOX1, 3 hours for each integrity gen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CasellaDiTesto 60"/>
            <p:cNvSpPr/>
            <p:nvPr/>
          </p:nvSpPr>
          <p:spPr>
            <a:xfrm>
              <a:off x="395280" y="6093720"/>
              <a:ext cx="338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4. Urine cell free DNA integrity – analysi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 </a:t>
              </a:r>
              <a:r>
                <a:rPr b="1" lang="it-IT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(1 hour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2" descr="https://tools.thermofisher.com/content/sfs/gallery/high/4958.jpg"/>
            <p:cNvPicPr/>
            <p:nvPr/>
          </p:nvPicPr>
          <p:blipFill>
            <a:blip r:embed="rId2"/>
            <a:srcRect l="45362" t="22521" r="44176" b="19578"/>
            <a:stretch/>
          </p:blipFill>
          <p:spPr>
            <a:xfrm>
              <a:off x="2988000" y="520560"/>
              <a:ext cx="864000" cy="17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Freccia a destra 63"/>
            <p:cNvSpPr/>
            <p:nvPr/>
          </p:nvSpPr>
          <p:spPr>
            <a:xfrm>
              <a:off x="2484360" y="1341360"/>
              <a:ext cx="576000" cy="287280"/>
            </a:xfrm>
            <a:prstGeom prst="rightArrow">
              <a:avLst>
                <a:gd name="adj1" fmla="val 50000"/>
                <a:gd name="adj2" fmla="val 499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ccia a destra 64"/>
            <p:cNvSpPr/>
            <p:nvPr/>
          </p:nvSpPr>
          <p:spPr>
            <a:xfrm rot="1738800">
              <a:off x="4068360" y="1456560"/>
              <a:ext cx="576000" cy="287280"/>
            </a:xfrm>
            <a:prstGeom prst="rightArrow">
              <a:avLst>
                <a:gd name="adj1" fmla="val 50000"/>
                <a:gd name="adj2" fmla="val 499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uppo 67"/>
            <p:cNvGrpSpPr/>
            <p:nvPr/>
          </p:nvGrpSpPr>
          <p:grpSpPr>
            <a:xfrm>
              <a:off x="4424040" y="2320920"/>
              <a:ext cx="4719960" cy="4263120"/>
              <a:chOff x="4424040" y="2320920"/>
              <a:chExt cx="4719960" cy="4263120"/>
            </a:xfrm>
          </p:grpSpPr>
          <p:grpSp>
            <p:nvGrpSpPr>
              <p:cNvPr id="60" name="Gruppo 48"/>
              <p:cNvGrpSpPr/>
              <p:nvPr/>
            </p:nvGrpSpPr>
            <p:grpSpPr>
              <a:xfrm>
                <a:off x="4571640" y="2320920"/>
                <a:ext cx="4572360" cy="4263120"/>
                <a:chOff x="4571640" y="2320920"/>
                <a:chExt cx="4572360" cy="4263120"/>
              </a:xfrm>
            </p:grpSpPr>
            <p:pic>
              <p:nvPicPr>
                <p:cNvPr id="61" name="Picture 4" descr="http://www.corbettlifescience.com/shared/Rotor-Gene%206000/images/kits_parts_acc/6001-014_300px.jp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571640" y="2320920"/>
                  <a:ext cx="3799080" cy="366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CasellaDiTesto 5"/>
                <p:cNvSpPr/>
                <p:nvPr/>
              </p:nvSpPr>
              <p:spPr>
                <a:xfrm rot="1187400">
                  <a:off x="8339400" y="4435200"/>
                  <a:ext cx="3859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it-IT" sz="900" spc="-1" strike="noStrike">
                      <a:solidFill>
                        <a:srgbClr val="000000"/>
                      </a:solidFill>
                      <a:latin typeface="Calibri"/>
                    </a:rPr>
                    <a:t>St 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Parentesi graffa aperta 12"/>
                <p:cNvSpPr/>
                <p:nvPr/>
              </p:nvSpPr>
              <p:spPr>
                <a:xfrm rot="11922600">
                  <a:off x="8013600" y="4332240"/>
                  <a:ext cx="244080" cy="240840"/>
                </a:xfrm>
                <a:custGeom>
                  <a:avLst/>
                  <a:gdLst>
                    <a:gd name="textAreaLeft" fmla="*/ 155880 w 244080"/>
                    <a:gd name="textAreaRight" fmla="*/ 244440 w 244080"/>
                    <a:gd name="textAreaTop" fmla="*/ 6120 h 240840"/>
                    <a:gd name="textAreaBottom" fmla="*/ 234720 h 240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8"/>
                        <a:pt x="10800" y="1796"/>
                      </a:cubicBezTo>
                      <a:lnTo>
                        <a:pt x="10800" y="9004"/>
                      </a:lnTo>
                      <a:cubicBezTo>
                        <a:pt x="10800" y="9902"/>
                        <a:pt x="5400" y="10800"/>
                        <a:pt x="0" y="10800"/>
                      </a:cubicBezTo>
                      <a:cubicBezTo>
                        <a:pt x="5400" y="10800"/>
                        <a:pt x="10800" y="11698"/>
                        <a:pt x="10800" y="12596"/>
                      </a:cubicBezTo>
                      <a:lnTo>
                        <a:pt x="10800" y="19804"/>
                      </a:lnTo>
                      <a:cubicBezTo>
                        <a:pt x="10800" y="20702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CasellaDiTesto 13"/>
                <p:cNvSpPr/>
                <p:nvPr/>
              </p:nvSpPr>
              <p:spPr>
                <a:xfrm flipH="1" rot="1416600">
                  <a:off x="8149680" y="4746960"/>
                  <a:ext cx="4197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it-IT" sz="900" spc="-1" strike="noStrike">
                      <a:solidFill>
                        <a:srgbClr val="000000"/>
                      </a:solidFill>
                      <a:latin typeface="Calibri"/>
                    </a:rPr>
                    <a:t>St 2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Parentesi graffa aperta 16"/>
                <p:cNvSpPr/>
                <p:nvPr/>
              </p:nvSpPr>
              <p:spPr>
                <a:xfrm rot="12270000">
                  <a:off x="7876800" y="4569120"/>
                  <a:ext cx="256680" cy="302760"/>
                </a:xfrm>
                <a:custGeom>
                  <a:avLst/>
                  <a:gdLst>
                    <a:gd name="textAreaLeft" fmla="*/ 164160 w 256680"/>
                    <a:gd name="textAreaRight" fmla="*/ 257040 w 256680"/>
                    <a:gd name="textAreaTop" fmla="*/ 6480 h 302760"/>
                    <a:gd name="textAreaBottom" fmla="*/ 296280 h 302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752"/>
                        <a:pt x="10800" y="1503"/>
                      </a:cubicBezTo>
                      <a:lnTo>
                        <a:pt x="10800" y="9297"/>
                      </a:lnTo>
                      <a:cubicBezTo>
                        <a:pt x="10800" y="10049"/>
                        <a:pt x="5400" y="10800"/>
                        <a:pt x="0" y="10800"/>
                      </a:cubicBezTo>
                      <a:cubicBezTo>
                        <a:pt x="5400" y="10800"/>
                        <a:pt x="10800" y="11552"/>
                        <a:pt x="10800" y="12303"/>
                      </a:cubicBezTo>
                      <a:lnTo>
                        <a:pt x="10800" y="20097"/>
                      </a:lnTo>
                      <a:cubicBezTo>
                        <a:pt x="10800" y="20849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Parentesi graffa aperta 17"/>
                <p:cNvSpPr/>
                <p:nvPr/>
              </p:nvSpPr>
              <p:spPr>
                <a:xfrm rot="12808800">
                  <a:off x="7732440" y="4859280"/>
                  <a:ext cx="215640" cy="285120"/>
                </a:xfrm>
                <a:custGeom>
                  <a:avLst/>
                  <a:gdLst>
                    <a:gd name="textAreaLeft" fmla="*/ 137880 w 215640"/>
                    <a:gd name="textAreaRight" fmla="*/ 216000 w 215640"/>
                    <a:gd name="textAreaTop" fmla="*/ 5400 h 285120"/>
                    <a:gd name="textAreaBottom" fmla="*/ 279720 h 285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670"/>
                        <a:pt x="10800" y="1339"/>
                      </a:cubicBezTo>
                      <a:lnTo>
                        <a:pt x="10800" y="9529"/>
                      </a:lnTo>
                      <a:cubicBezTo>
                        <a:pt x="10800" y="10199"/>
                        <a:pt x="5400" y="10868"/>
                        <a:pt x="0" y="10868"/>
                      </a:cubicBezTo>
                      <a:cubicBezTo>
                        <a:pt x="5400" y="10868"/>
                        <a:pt x="10800" y="11538"/>
                        <a:pt x="10800" y="12207"/>
                      </a:cubicBezTo>
                      <a:lnTo>
                        <a:pt x="10800" y="20261"/>
                      </a:lnTo>
                      <a:cubicBezTo>
                        <a:pt x="10800" y="2093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CasellaDiTesto 22"/>
                <p:cNvSpPr/>
                <p:nvPr/>
              </p:nvSpPr>
              <p:spPr>
                <a:xfrm flipH="1" rot="2031600">
                  <a:off x="7917120" y="5106240"/>
                  <a:ext cx="4197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it-IT" sz="900" spc="-1" strike="noStrike">
                      <a:solidFill>
                        <a:srgbClr val="000000"/>
                      </a:solidFill>
                      <a:latin typeface="Calibri"/>
                    </a:rPr>
                    <a:t>St 3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CasellaDiTesto 23"/>
                <p:cNvSpPr/>
                <p:nvPr/>
              </p:nvSpPr>
              <p:spPr>
                <a:xfrm rot="6187200">
                  <a:off x="7632360" y="4275000"/>
                  <a:ext cx="4356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900" spc="-1" strike="noStrike">
                      <a:solidFill>
                        <a:srgbClr val="000000"/>
                      </a:solidFill>
                      <a:latin typeface="Calibri"/>
                    </a:rPr>
                    <a:t>1→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Parentesi graffa aperta 30"/>
                <p:cNvSpPr/>
                <p:nvPr/>
              </p:nvSpPr>
              <p:spPr>
                <a:xfrm rot="13862400">
                  <a:off x="7512120" y="5085720"/>
                  <a:ext cx="223560" cy="347040"/>
                </a:xfrm>
                <a:custGeom>
                  <a:avLst/>
                  <a:gdLst>
                    <a:gd name="textAreaLeft" fmla="*/ 142920 w 223560"/>
                    <a:gd name="textAreaRight" fmla="*/ 223920 w 223560"/>
                    <a:gd name="textAreaTop" fmla="*/ 5760 h 347040"/>
                    <a:gd name="textAreaBottom" fmla="*/ 341280 h 347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589"/>
                        <a:pt x="10800" y="1177"/>
                      </a:cubicBezTo>
                      <a:lnTo>
                        <a:pt x="10800" y="9691"/>
                      </a:lnTo>
                      <a:cubicBezTo>
                        <a:pt x="10800" y="10280"/>
                        <a:pt x="5400" y="10868"/>
                        <a:pt x="0" y="10868"/>
                      </a:cubicBezTo>
                      <a:cubicBezTo>
                        <a:pt x="5400" y="10868"/>
                        <a:pt x="10800" y="11457"/>
                        <a:pt x="10800" y="12045"/>
                      </a:cubicBezTo>
                      <a:lnTo>
                        <a:pt x="10800" y="20423"/>
                      </a:lnTo>
                      <a:cubicBezTo>
                        <a:pt x="10800" y="21012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CasellaDiTesto 31"/>
                <p:cNvSpPr/>
                <p:nvPr/>
              </p:nvSpPr>
              <p:spPr>
                <a:xfrm flipH="1" rot="2794800">
                  <a:off x="7626600" y="5392080"/>
                  <a:ext cx="416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it-IT" sz="900" spc="-1" strike="noStrike">
                      <a:solidFill>
                        <a:srgbClr val="000000"/>
                      </a:solidFill>
                      <a:latin typeface="Calibri"/>
                    </a:rPr>
                    <a:t>St 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Parentesi graffa aperta 32"/>
                <p:cNvSpPr/>
                <p:nvPr/>
              </p:nvSpPr>
              <p:spPr>
                <a:xfrm rot="14629800">
                  <a:off x="7201440" y="5317920"/>
                  <a:ext cx="259920" cy="320040"/>
                </a:xfrm>
                <a:custGeom>
                  <a:avLst/>
                  <a:gdLst>
                    <a:gd name="textAreaLeft" fmla="*/ 165960 w 259920"/>
                    <a:gd name="textAreaRight" fmla="*/ 260280 w 259920"/>
                    <a:gd name="textAreaTop" fmla="*/ 6840 h 320040"/>
                    <a:gd name="textAreaBottom" fmla="*/ 313200 h 320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742"/>
                        <a:pt x="10800" y="1484"/>
                      </a:cubicBezTo>
                      <a:lnTo>
                        <a:pt x="10800" y="9384"/>
                      </a:lnTo>
                      <a:cubicBezTo>
                        <a:pt x="10800" y="10126"/>
                        <a:pt x="5400" y="10868"/>
                        <a:pt x="0" y="10868"/>
                      </a:cubicBezTo>
                      <a:cubicBezTo>
                        <a:pt x="5400" y="10868"/>
                        <a:pt x="10800" y="11610"/>
                        <a:pt x="10800" y="12352"/>
                      </a:cubicBezTo>
                      <a:lnTo>
                        <a:pt x="10800" y="20116"/>
                      </a:lnTo>
                      <a:cubicBezTo>
                        <a:pt x="10800" y="20858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CasellaDiTesto 33"/>
                <p:cNvSpPr/>
                <p:nvPr/>
              </p:nvSpPr>
              <p:spPr>
                <a:xfrm flipH="1" rot="2794800">
                  <a:off x="7317360" y="5620680"/>
                  <a:ext cx="416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it-IT" sz="900" spc="-1" strike="noStrike">
                      <a:solidFill>
                        <a:srgbClr val="000000"/>
                      </a:solidFill>
                      <a:latin typeface="Calibri"/>
                    </a:rPr>
                    <a:t>St 5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Parentesi graffa aperta 34"/>
                <p:cNvSpPr/>
                <p:nvPr/>
              </p:nvSpPr>
              <p:spPr>
                <a:xfrm rot="15198000">
                  <a:off x="6881400" y="5453640"/>
                  <a:ext cx="259920" cy="320040"/>
                </a:xfrm>
                <a:custGeom>
                  <a:avLst/>
                  <a:gdLst>
                    <a:gd name="textAreaLeft" fmla="*/ 165960 w 259920"/>
                    <a:gd name="textAreaRight" fmla="*/ 260280 w 259920"/>
                    <a:gd name="textAreaTop" fmla="*/ 6840 h 320040"/>
                    <a:gd name="textAreaBottom" fmla="*/ 313200 h 320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742"/>
                        <a:pt x="10800" y="1484"/>
                      </a:cubicBezTo>
                      <a:lnTo>
                        <a:pt x="10800" y="9384"/>
                      </a:lnTo>
                      <a:cubicBezTo>
                        <a:pt x="10800" y="10126"/>
                        <a:pt x="5400" y="10868"/>
                        <a:pt x="0" y="10868"/>
                      </a:cubicBezTo>
                      <a:cubicBezTo>
                        <a:pt x="5400" y="10868"/>
                        <a:pt x="10800" y="11610"/>
                        <a:pt x="10800" y="12352"/>
                      </a:cubicBezTo>
                      <a:lnTo>
                        <a:pt x="10800" y="20116"/>
                      </a:lnTo>
                      <a:cubicBezTo>
                        <a:pt x="10800" y="20858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CasellaDiTesto 35"/>
                <p:cNvSpPr/>
                <p:nvPr/>
              </p:nvSpPr>
              <p:spPr>
                <a:xfrm flipH="1" rot="3877200">
                  <a:off x="6958440" y="5846400"/>
                  <a:ext cx="416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it-IT" sz="900" spc="-1" strike="noStrike">
                      <a:solidFill>
                        <a:srgbClr val="000000"/>
                      </a:solidFill>
                      <a:latin typeface="Calibri"/>
                    </a:rPr>
                    <a:t>St 6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CasellaDiTesto 37"/>
                <p:cNvSpPr/>
                <p:nvPr/>
              </p:nvSpPr>
              <p:spPr>
                <a:xfrm>
                  <a:off x="8216640" y="3736800"/>
                  <a:ext cx="927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 u="sng">
                      <a:solidFill>
                        <a:srgbClr val="000000"/>
                      </a:solidFill>
                      <a:uFillTx/>
                      <a:latin typeface="Calibri"/>
                    </a:rPr>
                    <a:t>START LOAD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Parentesi graffa aperta 39"/>
                <p:cNvSpPr/>
                <p:nvPr/>
              </p:nvSpPr>
              <p:spPr>
                <a:xfrm rot="15570000">
                  <a:off x="6563160" y="5517000"/>
                  <a:ext cx="258480" cy="320040"/>
                </a:xfrm>
                <a:custGeom>
                  <a:avLst/>
                  <a:gdLst>
                    <a:gd name="textAreaLeft" fmla="*/ 165240 w 258480"/>
                    <a:gd name="textAreaRight" fmla="*/ 258840 w 258480"/>
                    <a:gd name="textAreaTop" fmla="*/ 6840 h 320040"/>
                    <a:gd name="textAreaBottom" fmla="*/ 313200 h 320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738"/>
                        <a:pt x="10800" y="1475"/>
                      </a:cubicBezTo>
                      <a:lnTo>
                        <a:pt x="10800" y="9393"/>
                      </a:lnTo>
                      <a:cubicBezTo>
                        <a:pt x="10800" y="10131"/>
                        <a:pt x="5400" y="10868"/>
                        <a:pt x="0" y="10868"/>
                      </a:cubicBezTo>
                      <a:cubicBezTo>
                        <a:pt x="5400" y="10868"/>
                        <a:pt x="10800" y="11606"/>
                        <a:pt x="10800" y="12343"/>
                      </a:cubicBezTo>
                      <a:lnTo>
                        <a:pt x="10800" y="20125"/>
                      </a:lnTo>
                      <a:cubicBezTo>
                        <a:pt x="10800" y="20863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CasellaDiTesto 40"/>
                <p:cNvSpPr/>
                <p:nvPr/>
              </p:nvSpPr>
              <p:spPr>
                <a:xfrm flipH="1" rot="4282200">
                  <a:off x="6589440" y="5927400"/>
                  <a:ext cx="416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it-IT" sz="900" spc="-1" strike="noStrike">
                      <a:solidFill>
                        <a:srgbClr val="000000"/>
                      </a:solidFill>
                      <a:latin typeface="Calibri"/>
                    </a:rPr>
                    <a:t>nc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Parentesi graffa aperta 41"/>
                <p:cNvSpPr/>
                <p:nvPr/>
              </p:nvSpPr>
              <p:spPr>
                <a:xfrm rot="16200000">
                  <a:off x="6231240" y="5566680"/>
                  <a:ext cx="259920" cy="320040"/>
                </a:xfrm>
                <a:custGeom>
                  <a:avLst/>
                  <a:gdLst>
                    <a:gd name="textAreaLeft" fmla="*/ 165960 w 259920"/>
                    <a:gd name="textAreaRight" fmla="*/ 260280 w 259920"/>
                    <a:gd name="textAreaTop" fmla="*/ 6840 h 320040"/>
                    <a:gd name="textAreaBottom" fmla="*/ 313200 h 320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742"/>
                        <a:pt x="10800" y="1484"/>
                      </a:cubicBezTo>
                      <a:lnTo>
                        <a:pt x="10800" y="9384"/>
                      </a:lnTo>
                      <a:cubicBezTo>
                        <a:pt x="10800" y="10126"/>
                        <a:pt x="5400" y="10868"/>
                        <a:pt x="0" y="10868"/>
                      </a:cubicBezTo>
                      <a:cubicBezTo>
                        <a:pt x="5400" y="10868"/>
                        <a:pt x="10800" y="11610"/>
                        <a:pt x="10800" y="12352"/>
                      </a:cubicBezTo>
                      <a:lnTo>
                        <a:pt x="10800" y="20116"/>
                      </a:lnTo>
                      <a:cubicBezTo>
                        <a:pt x="10800" y="20858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CasellaDiTesto 43"/>
                <p:cNvSpPr/>
                <p:nvPr/>
              </p:nvSpPr>
              <p:spPr>
                <a:xfrm flipH="1" rot="4736400">
                  <a:off x="6038640" y="6089760"/>
                  <a:ext cx="7257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it-IT" sz="900" spc="-1" strike="noStrike">
                      <a:solidFill>
                        <a:srgbClr val="00b050"/>
                      </a:solidFill>
                      <a:latin typeface="Calibri"/>
                    </a:rPr>
                    <a:t>Sample 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Parentesi graffa aperta 44"/>
                <p:cNvSpPr/>
                <p:nvPr/>
              </p:nvSpPr>
              <p:spPr>
                <a:xfrm rot="17022600">
                  <a:off x="5866560" y="5527080"/>
                  <a:ext cx="261360" cy="312120"/>
                </a:xfrm>
                <a:custGeom>
                  <a:avLst/>
                  <a:gdLst>
                    <a:gd name="textAreaLeft" fmla="*/ 167040 w 261360"/>
                    <a:gd name="textAreaRight" fmla="*/ 261720 w 261360"/>
                    <a:gd name="textAreaTop" fmla="*/ 6840 h 312120"/>
                    <a:gd name="textAreaBottom" fmla="*/ 305280 h 312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766"/>
                        <a:pt x="10800" y="1531"/>
                      </a:cubicBezTo>
                      <a:lnTo>
                        <a:pt x="10800" y="9337"/>
                      </a:lnTo>
                      <a:cubicBezTo>
                        <a:pt x="10800" y="10103"/>
                        <a:pt x="5400" y="10868"/>
                        <a:pt x="0" y="10868"/>
                      </a:cubicBezTo>
                      <a:cubicBezTo>
                        <a:pt x="5400" y="10868"/>
                        <a:pt x="10800" y="11634"/>
                        <a:pt x="10800" y="12399"/>
                      </a:cubicBezTo>
                      <a:lnTo>
                        <a:pt x="10800" y="20069"/>
                      </a:lnTo>
                      <a:cubicBezTo>
                        <a:pt x="10800" y="20835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CasellaDiTesto 45"/>
                <p:cNvSpPr/>
                <p:nvPr/>
              </p:nvSpPr>
              <p:spPr>
                <a:xfrm flipH="1" rot="5853000">
                  <a:off x="5554080" y="6009840"/>
                  <a:ext cx="7261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it-IT" sz="900" spc="-1" strike="noStrike">
                      <a:solidFill>
                        <a:srgbClr val="e46c0a"/>
                      </a:solidFill>
                      <a:latin typeface="Calibri"/>
                    </a:rPr>
                    <a:t>Sample 2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CasellaDiTesto 46"/>
                <p:cNvSpPr/>
                <p:nvPr/>
              </p:nvSpPr>
              <p:spPr>
                <a:xfrm flipH="1" rot="6178200">
                  <a:off x="5198040" y="5938920"/>
                  <a:ext cx="726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it-IT" sz="900" spc="-1" strike="noStrike">
                      <a:solidFill>
                        <a:srgbClr val="953735"/>
                      </a:solidFill>
                      <a:latin typeface="Calibri"/>
                    </a:rPr>
                    <a:t>Sample 3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Parentesi graffa aperta 47"/>
                <p:cNvSpPr/>
                <p:nvPr/>
              </p:nvSpPr>
              <p:spPr>
                <a:xfrm rot="17686200">
                  <a:off x="5552640" y="5455440"/>
                  <a:ext cx="259920" cy="298080"/>
                </a:xfrm>
                <a:custGeom>
                  <a:avLst/>
                  <a:gdLst>
                    <a:gd name="textAreaLeft" fmla="*/ 165960 w 259920"/>
                    <a:gd name="textAreaRight" fmla="*/ 260280 w 259920"/>
                    <a:gd name="textAreaTop" fmla="*/ 6840 h 298080"/>
                    <a:gd name="textAreaBottom" fmla="*/ 291240 h 298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797"/>
                        <a:pt x="10800" y="1594"/>
                      </a:cubicBezTo>
                      <a:lnTo>
                        <a:pt x="10800" y="9274"/>
                      </a:lnTo>
                      <a:cubicBezTo>
                        <a:pt x="10800" y="10071"/>
                        <a:pt x="5400" y="10868"/>
                        <a:pt x="0" y="10868"/>
                      </a:cubicBezTo>
                      <a:cubicBezTo>
                        <a:pt x="5400" y="10868"/>
                        <a:pt x="10800" y="11665"/>
                        <a:pt x="10800" y="12462"/>
                      </a:cubicBezTo>
                      <a:lnTo>
                        <a:pt x="10800" y="20006"/>
                      </a:lnTo>
                      <a:cubicBezTo>
                        <a:pt x="10800" y="20803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CasellaDiTesto 49"/>
              <p:cNvSpPr/>
              <p:nvPr/>
            </p:nvSpPr>
            <p:spPr>
              <a:xfrm rot="1951800">
                <a:off x="5063400" y="523656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Calibri"/>
                  </a:rPr>
                  <a:t>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CasellaDiTesto 66"/>
              <p:cNvSpPr/>
              <p:nvPr/>
            </p:nvSpPr>
            <p:spPr>
              <a:xfrm rot="3087000">
                <a:off x="4404600" y="4826160"/>
                <a:ext cx="86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900" spc="-1" strike="noStrike">
                    <a:solidFill>
                      <a:srgbClr val="000000"/>
                    </a:solidFill>
                    <a:latin typeface="Calibri"/>
                  </a:rPr>
                  <a:t>Other sampl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6" name="Picture 10" descr="http://4ti.co.uk/files/4014/5820/0514/4ti-0796_685.jpg"/>
            <p:cNvPicPr/>
            <p:nvPr/>
          </p:nvPicPr>
          <p:blipFill>
            <a:blip r:embed="rId4"/>
            <a:stretch/>
          </p:blipFill>
          <p:spPr>
            <a:xfrm>
              <a:off x="4998600" y="1663920"/>
              <a:ext cx="731520" cy="73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CasellaDiTesto 69"/>
          <p:cNvSpPr/>
          <p:nvPr/>
        </p:nvSpPr>
        <p:spPr>
          <a:xfrm>
            <a:off x="802800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Fig.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3" descr=""/>
          <p:cNvPicPr/>
          <p:nvPr/>
        </p:nvPicPr>
        <p:blipFill>
          <a:blip r:embed="rId5"/>
          <a:stretch/>
        </p:blipFill>
        <p:spPr>
          <a:xfrm>
            <a:off x="108000" y="3716280"/>
            <a:ext cx="2174760" cy="122544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4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7" descr=""/>
          <p:cNvPicPr/>
          <p:nvPr/>
        </p:nvPicPr>
        <p:blipFill>
          <a:blip r:embed="rId6"/>
          <a:srcRect l="11860" t="0" r="13026" b="26665"/>
          <a:stretch/>
        </p:blipFill>
        <p:spPr>
          <a:xfrm>
            <a:off x="755640" y="476280"/>
            <a:ext cx="944640" cy="164160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8"/>
          <p:cNvSpPr/>
          <p:nvPr/>
        </p:nvSpPr>
        <p:spPr>
          <a:xfrm>
            <a:off x="147636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Urine supernat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sellaDiTesto 50"/>
          <p:cNvSpPr/>
          <p:nvPr/>
        </p:nvSpPr>
        <p:spPr>
          <a:xfrm>
            <a:off x="1258920" y="1844640"/>
            <a:ext cx="12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Urine cell pell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6-08-02T12:16:10Z</dcterms:modified>
  <cp:revision>49</cp:revision>
  <dc:subject/>
  <dc:title>Diapositiva 1</dc:title>
</cp:coreProperties>
</file>